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20AE-49BD-45A1-B795-7469B874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1762-4029-462E-8EAD-AB44D520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82A3-99A7-4F9B-945D-5D73298A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F4FB-9D36-4E81-B3E3-7A48E9E1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9EC07-F52C-4657-A436-BB878C3E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EF3B9-5BE5-41DD-BEA2-F2D38BA5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0FB89-9080-407F-851C-87E4E0A4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E57D3-F086-4876-A565-0ED82BD7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D53E7-3E9D-469E-846D-6A1C80CE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B1CDB-2344-4C6D-83BC-290EA716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B0731-D245-42E8-A1B5-83E9E896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8612-6ED9-4BB3-89CB-5A803DEB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17783-EDAE-4FB2-BF4E-B821115E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A5895-84B2-4978-97D5-E790C5EE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A9DED-8F16-4059-986C-4BAE7E9D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28247-F6C8-4DAE-A466-AB918C91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F7FCE-C401-4A73-9F3A-09BB0258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D8C4-1DF4-40C4-8807-8095B728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59F1-D29C-40D7-ABC6-77F1E25A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1FFE-D8DE-44C6-B58A-F84D3037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9559-5189-44AA-80DF-DEE95EA2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3E1E-6387-4BEB-9DB5-546AA84A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3713-9887-4C6C-9758-6764874D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BA93-E368-4348-936C-B7BC7459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3EE6-4FDC-4B42-A6F2-BF93D328A71E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CC5E-21B9-4979-A94B-55432E48F14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1295280"/>
            <a:ext cx="7416720" cy="422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14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23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تكلفة الاقتراض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000" y="1267920"/>
            <a:ext cx="57704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حالات صعوبة ربط تكلفة الاقتراض بالأصل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حدد قيمة تكلفة الاقتراض التى يمكن رسملتها باستخدام معدل للرسملة يحسب على أساس المتوسط المرجح لتكلفة الاقتراض للمنشأة عن القروض القائمة خلال الم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نا تستبعد القروض التى تم إبرامها تحديداً بغرض إقتناء أصل بذات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ألا تزيد قيمة تكلفة الاقتراض المرسملة خلال فترة ما عن قيمة تكلفة الاقتراض التى تم تكبدها خلال تلك الفتر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59280" y="620280"/>
            <a:ext cx="2027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بدء الرسم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87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عندما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4920" indent="0" algn="r" rtl="1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أ)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إنفاق على الأص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  (ب) تكبد المنشأة تكلفة إقتراض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  (ج) تكون الأنشطة اللازمة لإعداد الأصل للاستخدام فى الأغراض المحددة له أو بيعه للغير محل تنفيذ فى الوقت الحال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لاحظ   ( و )    ليس   ( أو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80000" y="404280"/>
            <a:ext cx="30463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وقف عن الرسم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136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يجب التوقف عن رسملة تكلفة الاقتراض خلال الفترات التى تتعطل فيها أعمال الإنشاء الفعالة للأص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ا يتم تعليق رسملة تكلفة الاقتراض عندما يكون التوقف المؤقت بمثابة خطوة ضرورية فى عملية إعداد الأصل للاستخدام فى الأغراض المحددة  له أو لبيعه للغير مثل الفترات المطلوبة لنضج المخزو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يجب الانتهاء من عملية رسملة تكلفة الاقتراض عندما يتم الانتهاء من كل الأنشطة الجوهرية اللازم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ل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إعداد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أصل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عندما يتم الانتهاء من إنشاء أجزاء من الأصل و يكون من الممكن استخدام كل جزء من هذه الأجزاء أثناء استمرار عملية إنشاء باقى الأجزاء الأخرى فإنه يتعين التوقف عن رسملة تكلفة الاقتراض على الأجزاء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08720" y="475920"/>
            <a:ext cx="1378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ـــال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351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شركة حصلت على القروض الآتية 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لتمويل مشروعاتها المتضمنة إنشاء مشروع مدينة سكنية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معدل 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 خاصة بمشروع المدينة السكن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معدل 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 خاصة بمشروع آخ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وقد بلغت المبالغ المنفقة على مشروع المدينة السكنية 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مبلغ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المطلوب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حديد تكلفة الاقتراض الواجب رسملتها على مشروع المدينة السكن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  - تكلفة الاقتراض الخاصة بالقرض الاول المخصص للمشرو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ب – تكلفة الاقتراض الخاصة بالقروض الاخ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فائدة المحتسبة على القرض الثالث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8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فائدة المحتسبة على القرض الرابع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6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كلفة الاقترا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عدل الرسملة = ـــــــــــــــــــــــــــــــــــــــــــــــــــ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 المتوسط المرجح للقرو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836640"/>
            <a:ext cx="12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حــل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4920" y="1599840"/>
            <a:ext cx="806436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8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=  ــــــــــــــــــــــــــــــــــــــــــــــــــ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.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نصيب المشروع =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.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ج – تكلفة الاقتراض التى يجب رسملتها =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جني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50920" y="907560"/>
            <a:ext cx="224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79280" y="2205000"/>
            <a:ext cx="4753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03640" y="278100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تحديد المعالجة المحاسبية لتكلفة الاقتراض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طلب هذا المعيار بشكل عام معالجة تكاليف الاقتراض كمصروفات فور تكبده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بدي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سمح كمعالجة بديلة برسملة تكلفة الاقتراض التى ترجع مباشرة إلى اقتناء أو إنشاء أو إنتاج أصل مؤهل لتحمل تكلفة الاقتراض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443280" y="691920"/>
            <a:ext cx="224316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2565000"/>
            <a:ext cx="345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867280" y="1125360"/>
            <a:ext cx="28195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362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ثبت تكلفة الاقتراض كمصروفات تحمل على الفترة التى تكبدت فيها المنشأة هذه التكلف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الإفصاح فى القوائم المالية عن السياسة المحاسبية المتبعة لمعالجة تكلفة الاقتراض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56000" y="270792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40000" y="620640"/>
            <a:ext cx="4546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رسملة تكلفة الاقتراض المتعلقة مباشرة باقتناء أو إنشاء أو إنتاج الأصل الذى يتطلب بالضرورة فترة زمنية طويلة لتجهيزه للاستخدام فى الأغراض المحددة له أو لبيعه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يتم رسملة تكلفة الاقتراض هذه ضمن تكلفة الأصل عندما يكون متوقعاً أن تتسبب فى خلق منافع اقتصادية مستقبلية للمنشأة وتكون هناك إمكانية لقياس التكلفة بشكل يمكن الاعتماد عليه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95280" y="1196640"/>
            <a:ext cx="4691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تكلفة الإقتراض المؤهلة للرسملة</a:t>
            </a:r>
            <a:r>
              <a:rPr b="1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ى تكلفة الاقتراض التى  كان يمكن تجنبها إذا لم يتم الإنفاق على هذا الأص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طرح من تكلفة الاقتراض المرسملة أى إيراد تحقق من الاستثمار المؤقت للأموال المقترض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خفيض أو استبعاد الزيادة فى القيمة الدفترية للأصل نتيجة الرسملة عن قيمته الإستردادية من القيمة الدفترية للأصل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05:14Z</dcterms:created>
  <dc:creator>Eissa</dc:creator>
  <dc:description/>
  <dc:language>en-US</dc:language>
  <cp:lastModifiedBy>m.farouk</cp:lastModifiedBy>
  <dcterms:modified xsi:type="dcterms:W3CDTF">2006-11-13T09:02:30Z</dcterms:modified>
  <cp:revision>19</cp:revision>
  <dc:subject/>
  <dc:title>معيار المحاسبة المصرى رقم (14) تكلفة الاقتراض</dc:title>
</cp:coreProperties>
</file>